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1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ftr" idx="12"/>
          </p:nvPr>
        </p:nvSpPr>
        <p:spPr>
          <a:xfrm>
            <a:off x="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 type="sldNum" idx="13"/>
          </p:nvPr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140-B44A-42A0-9D40-1F891A9842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ymbol zastępczy numeru slajdu 3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5CF-BC66-4F6E-988D-4B91005849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ymbol zastępczy numeru slajdu 3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7A6-E7CB-4899-B99C-81E646BB3B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Osoby należące do kategorii NEET, czyli osoba młoda w wieku 15-29 lat,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która spełnia łącznie trzy warunk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pracuje (tj. jest bezrobotna lub bierna zawodowo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kształci się (tj. nie uczestniczy w kształceniu formalnym w trybie stacjonarnym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szkoli się ( tj. nie uczestniczy w pozaszkolnych zajęciach mających na celu uzyskanie, uzupełnienie lub doskonalenie umiejętności i kwalifikacji zawodowych lub ogólnych, potrzebnych do wykonywania p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ymbol zastępczy numeru slajdu 3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708-380E-4A3E-9A40-C1190A23B9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ymbol zastępczy numeru slajdu 3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891-A374-4A45-A8B2-50818DEB37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ymbol zastępczy numeru slajdu 3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874-3873-4402-A456-9FB210D14C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6E06-EA7D-46E8-B2CF-8B9902D7E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D21A-3ECF-4756-A7C3-724AA4C020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CBA3D1-F9DC-45AB-96E7-552294E26C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2ED5B-D459-4356-A14B-970286483F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63E0A-FB22-41AE-939C-C33266AC71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2448A-8168-4AE7-847F-3E583AAF57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3FEE1-A013-444E-9EE8-9C1C809F85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07C11-25E7-4B8D-B5F2-3705A190B7C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29A88-EDAC-48F3-828C-08F0D34902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6BCE9-BB8F-4713-BC70-F49E8E1A39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E900E-A93A-42E4-A737-773D2960F95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1B0CE-D1B3-4442-995D-47D34F852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C04D-9873-47F5-A3D7-74EA005F470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33298-2C08-40FD-9DBA-D3C42E925AA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6C989-6400-4096-8F9A-BE7EBF5E3A7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3429A-2E83-4AFA-8260-F2116BB342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7E28E-0758-4E77-9DAE-A3382D30E6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39EEA-8B40-47E7-93B6-59D1EBE2DA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6A8AE-568B-40AF-8CB2-AF2DDF6C4A1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4067D-49DA-4F46-B5FB-AB10F07215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B6EEA-6F8B-40E2-8BC0-F04200FFB6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14CB8-A6B6-4B61-94FA-48C14B1A88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D93E6-1AA3-4DEA-870E-73D2D5678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AE8C-A38E-4A5A-ABE4-ADAFF35DAE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455A0-0F72-4E2B-80BC-E0054211C3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C1BB-10BF-479E-AC8A-2AFAB458F57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0A7C-D754-4B85-A96C-8C970486EAD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5A8D2-991F-42E7-84AB-C1AB0D35CE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A7BD-2629-4B35-AB9D-9E7AC013335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7E5A-4129-4470-9DA5-A5E2842BA8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3E6E-0305-4A68-BD31-7A01A9A0AC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2ECE-9BB6-48D8-98FE-53F54E791B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451E-508C-49E5-88B9-8125064AF8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1DB-54CA-439D-9239-53BFB62D8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ECA9-22E8-4D71-802B-7FB14E84297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CF3E-D607-4561-972B-7A43C4B408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FAD6-EB15-4EC5-9948-FB580C0E5EA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AD9C5-9C77-409F-A394-6F0389F2B4D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EAA3D-08F5-46C3-BE13-61DED86DEF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595C9-92DD-4B52-B63D-98E9020689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00F33-9EE9-44BE-A647-898799EF640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5B2DA-9419-4592-98D5-51B1AE6053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E64F0-BB4F-4812-ADA4-C263B52E66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A6B94-9EF9-40F4-81C7-98E9FD5F50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2B69B-3BAA-4527-A7A7-7F2475E187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1048B-851C-4418-88FB-0574453C666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11101-9730-42B9-8949-D8180875C6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C9124-3F44-4606-84D1-E5D46F6FE6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B93F4-11C7-4497-8C8A-5F73DB627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9B75-FD27-4A16-9300-8427E41AE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3879-C3FC-49CE-86CF-78AD0C8F9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213C-5597-4822-A11D-74D51519C0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8078-4FAC-47ED-987C-74D025C51D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ED4F-CE24-4740-A892-EB68395BE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23A8-5886-40E3-A939-ED88244A46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2AA8-FA42-45E7-B8AE-2ABA32C15A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5CF7-6871-491C-9FE7-E79321BB13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4DA7-E7EE-4C53-A1F2-0C859F96F3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29D5-F34E-47B3-8C42-4EE423A1D7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39D8-3190-4A56-8DBA-A4D260B1C8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49A4-8F5C-490E-A8D6-BF94F33C6F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239F-9956-4491-A88A-92C840CA22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9B9C-62B1-4748-9097-CAEE12C2C8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79DF-3B4A-4CE1-A0EA-127AF4E86C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1A5-AAF5-4E93-A6EF-4D0CA5756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C6AA-6B98-42AB-A6AE-A39D463012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290-2436-45E9-89B5-37D112E09E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FB5-D0C0-400B-8C7A-A17D4D70F3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113-54EB-4839-BAA2-03EDF9088E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F56-0F9D-449E-BD80-80E51D72EC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267-E86E-46D6-A738-064B9BF834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C36-9126-4666-B6C2-0D4671BD7B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CED-F84D-4C58-85F9-7BBB852744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B06-4EF9-4492-BCDB-DE6BE0B59F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725-E822-4747-B055-4C234EF9C33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88B-278C-4774-9381-FB4F8836F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236D-5CCD-48BB-BCB1-935284E9A5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924-21F9-4A39-9EA9-24B7D6E9D5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A3F7E-E30E-4D34-A2AB-31C9C3A055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BA033-0859-4A58-9D7B-2DC7D8A8BF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1AD8-BAC4-41AD-8ADA-6AA7263BAD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B4489-0A50-435D-9757-A4916C900D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32E8-AD79-4F64-926D-1513B385DB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BE21F-F10F-4D4D-A909-D953D8B290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AC1AD-B45A-408A-8F0D-3CF387F507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E5B7-580C-4079-A976-3833C6293D4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31F5A-E868-4DE4-ABBC-0EC203897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0A6E-A0BF-47F4-B7DB-F22B55E567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31046-B186-4899-8BF7-F34EB9A936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6E76-04F7-40BD-8A7B-DE6606D4470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0DC9-9A30-476C-9AE1-9899E8A6605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B515-A8EE-4C84-822D-6BE78EAED2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CAD65-12AA-4032-B139-9B8408BA0F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9505-C7B0-4DE1-B819-B8426B204C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22E7-47EA-4206-855C-18C4BA8246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FB9C9-EC4A-409E-AB79-D610063CBB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9EC1E-0CD6-4CC2-92B0-E7D8092DEF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A4BCC-376C-4352-9239-BB82490C9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0C23-A8D7-4534-9C74-83BF1AC738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CB3ED-1472-4D8A-B257-7542B6361F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D5DBF-5A0A-4E21-8206-22264B6270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F411B-68CC-4ABA-8F1B-3B274FAE99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26E27-9773-40E6-A125-0C0774633B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9B4CB-CDEE-4AF9-A504-682EF7CC64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D1D3-109B-4A3E-BA03-C5AA7A2262C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4B9-A2D8-4BA8-A7FC-F3E394800A9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B0B-A779-43C9-BE66-20BD824C1D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C832-AF41-4889-B64F-E19849A8D5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E30-BBBC-4436-8988-D2DCF3BA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171A-39A1-45F5-B78C-BCCFF6A906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A470-5AC6-4043-9C6B-BF302ECB43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D92D-0E62-4377-B8D1-0E5E19D18E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6F62-BF84-4BEF-8549-5513641DBD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8FA-65D1-433F-A231-C1A2EB0241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327-C5E6-4724-AE5C-60DA265F30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8CA-E602-4077-A156-68EA5B9FD6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3B3-B7EC-4B49-A5ED-8569E6E74D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2E7B3-1061-4A9A-A444-7370EE5D5A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386F2-8D2F-46BA-9FF2-269547C81E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E4F71-05F1-4852-8ED7-99A52481A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E14D-00AB-4D9A-A45B-F5358143344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7FA-E580-4764-A3EB-527ECCD9742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B82D-45C0-465A-BD34-F5A972E92D1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0394-2EB1-4FF1-A404-0490BAEECEA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Y:\POKL_dokumenty\Promocja\logotypy\new 06.2014\POWER MIR UE poziom.jpg"/>
          <p:cNvPicPr/>
          <p:nvPr/>
        </p:nvPicPr>
        <p:blipFill>
          <a:blip r:embed="rId3"/>
          <a:stretch/>
        </p:blipFill>
        <p:spPr>
          <a:xfrm>
            <a:off x="330120" y="298440"/>
            <a:ext cx="4299120" cy="579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Y:\POKL_dokumenty\Promocja\logotypy\new 06.2014\POWER MIR UE poziom.jpg"/>
          <p:cNvPicPr/>
          <p:nvPr/>
        </p:nvPicPr>
        <p:blipFill>
          <a:blip r:embed="rId3"/>
          <a:stretch/>
        </p:blipFill>
        <p:spPr>
          <a:xfrm>
            <a:off x="330120" y="298440"/>
            <a:ext cx="4299120" cy="579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4488-3929-416F-98FF-F8CF9662AF7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B46-41EB-4ADF-B1F1-DF9E15604AB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7A9-3C61-4CDB-A6AB-B3B41714961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924F-9B41-401F-A7D6-CB85C33C8EC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71FC-C449-4039-BAED-0E47DB75DFB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Y:\POKL_dokumenty\Promocja\logotypy\PO WER 06.2014\POWER MIR UE poziom białe.png"/>
          <p:cNvPicPr/>
          <p:nvPr/>
        </p:nvPicPr>
        <p:blipFill>
          <a:blip r:embed="rId3"/>
          <a:stretch/>
        </p:blipFill>
        <p:spPr>
          <a:xfrm>
            <a:off x="5003640" y="250920"/>
            <a:ext cx="3972240" cy="53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19ED-6509-4C9B-B161-EDD8EDBB63F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628560" y="5756400"/>
            <a:ext cx="7886880" cy="4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</a:rPr>
              <a:t>26 maja 2015 r. Warszaw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06600" y="4781160"/>
            <a:ext cx="791208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PO WER jako narzędzie realizacji wsparcia oferowanego z EFS w nowej perspektywie finans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ytuł 1"/>
          <p:cNvSpPr/>
          <p:nvPr/>
        </p:nvSpPr>
        <p:spPr>
          <a:xfrm>
            <a:off x="36360" y="838080"/>
            <a:ext cx="8936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Calibri"/>
              </a:rPr>
              <a:t>Oś IV Innowacje społeczne i współpraca ponadnarod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rostokąt zaokrąglony 3"/>
          <p:cNvSpPr/>
          <p:nvPr/>
        </p:nvSpPr>
        <p:spPr>
          <a:xfrm>
            <a:off x="576360" y="2127240"/>
            <a:ext cx="8026200" cy="3359160"/>
          </a:xfrm>
          <a:prstGeom prst="roundRect">
            <a:avLst>
              <a:gd name="adj" fmla="val 16667"/>
            </a:avLst>
          </a:prstGeom>
          <a:solidFill>
            <a:srgbClr val="ed7d31">
              <a:alpha val="24000"/>
            </a:srgbClr>
          </a:solidFill>
          <a:ln w="9360">
            <a:solidFill>
              <a:srgbClr val="595959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drażani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innowacji społecz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2 schematach („mikro” i „makro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gramy mobilności ponadnarodowej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alizacja projektów na zasadach program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rasmus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parcie dla osób zaangażowanych w kreowanie i wdrażanie polityk publiczn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alizacja programu mobilnośc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ole tekstowe 1"/>
          <p:cNvSpPr/>
          <p:nvPr/>
        </p:nvSpPr>
        <p:spPr>
          <a:xfrm>
            <a:off x="2211480" y="5288040"/>
            <a:ext cx="693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d9d9d9"/>
                </a:solidFill>
                <a:latin typeface="Arial Black"/>
              </a:rPr>
              <a:t>CT8,9,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Grupa 15"/>
          <p:cNvGrpSpPr/>
          <p:nvPr/>
        </p:nvGrpSpPr>
        <p:grpSpPr>
          <a:xfrm>
            <a:off x="0" y="5419800"/>
            <a:ext cx="9072720" cy="1438200"/>
            <a:chOff x="0" y="5419800"/>
            <a:chExt cx="9072720" cy="1438200"/>
          </a:xfrm>
        </p:grpSpPr>
        <p:sp>
          <p:nvSpPr>
            <p:cNvPr id="590" name="Prostokąt 8"/>
            <p:cNvSpPr/>
            <p:nvPr/>
          </p:nvSpPr>
          <p:spPr>
            <a:xfrm>
              <a:off x="84600" y="5580360"/>
              <a:ext cx="8988120" cy="1277640"/>
            </a:xfrm>
            <a:prstGeom prst="rect">
              <a:avLst/>
            </a:prstGeom>
            <a:solidFill>
              <a:srgbClr val="d9d9d9">
                <a:alpha val="30000"/>
              </a:srgbClr>
            </a:solidFill>
            <a:ln w="9360">
              <a:solidFill>
                <a:srgbClr val="e7e6e6">
                  <a:alpha val="1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81080" indent="-181080"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Z, uczelnie medyczne, szpitale kliniczne, NFZ, Instytuty badawcze, CMJ, podmioty lecznicze i świadczące usługi na rzecz osób zależnych, instytucje uprawnione do kształcenia kadr medycznych (CMKP, CKPPiP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1" name="pole tekstowe 9" descr=""/>
            <p:cNvPicPr/>
            <p:nvPr/>
          </p:nvPicPr>
          <p:blipFill>
            <a:blip r:embed="rId1"/>
            <a:stretch/>
          </p:blipFill>
          <p:spPr>
            <a:xfrm>
              <a:off x="0" y="5419800"/>
              <a:ext cx="7094520" cy="48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Tytuł 1"/>
          <p:cNvSpPr/>
          <p:nvPr/>
        </p:nvSpPr>
        <p:spPr>
          <a:xfrm>
            <a:off x="0" y="955800"/>
            <a:ext cx="89359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Calibri"/>
              </a:rPr>
              <a:t>Oś V Wsparcie dla obszaru zdrow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rostokąt zaokrąglony 3"/>
          <p:cNvSpPr/>
          <p:nvPr/>
        </p:nvSpPr>
        <p:spPr>
          <a:xfrm>
            <a:off x="293760" y="1717560"/>
            <a:ext cx="7775640" cy="3611520"/>
          </a:xfrm>
          <a:prstGeom prst="roundRect">
            <a:avLst>
              <a:gd name="adj" fmla="val 16667"/>
            </a:avLst>
          </a:prstGeom>
          <a:solidFill>
            <a:srgbClr val="ed7d31">
              <a:alpha val="24000"/>
            </a:srgbClr>
          </a:solidFill>
          <a:ln w="9360">
            <a:solidFill>
              <a:srgbClr val="595959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drożenie i rozwój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gramów profilaktycz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zakresie chorób negatywnie wpływających na zasoby pracy dedykowanych osobom w wieku aktywności zawodowe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droże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ń projakościowych i rozwiązań organizacyj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ystemie ochrony zdrowia ułatwiających dostęp do niedrogich, trwałych oraz wysokiej jakości usług zdrowotnych (OOK, szkolenia pracowników podmiotów leczniczych, akredytacje, mapowanie potrzeb zdrowotnych, deinstytucjonalizacja opieki nad osobami zależnym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prawa jakości kształcenia wyższego na kierunkach medycznych (CS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ozwój kompetencji zawodowych i kwalifikacji kadr medycz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powiadających na potrzeby epidemiologiczno-demograficzne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na Bugal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partament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uropejskiego Funduszu Społe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rostokąt zaokrąglony 3"/>
          <p:cNvSpPr/>
          <p:nvPr/>
        </p:nvSpPr>
        <p:spPr>
          <a:xfrm>
            <a:off x="531720" y="1268280"/>
            <a:ext cx="8445600" cy="5283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9933"/>
                </a:solidFill>
                <a:latin typeface="Calibri"/>
                <a:ea typeface="Calibri"/>
              </a:rPr>
              <a:t>EFS</a:t>
            </a:r>
            <a:r>
              <a:rPr b="1" lang="pl-PL" sz="32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br>
              <a:rPr sz="3200"/>
            </a:br>
            <a:r>
              <a:rPr b="1" lang="pl-PL" sz="3200" spc="-1" strike="noStrike">
                <a:solidFill>
                  <a:srgbClr val="7f7f7f"/>
                </a:solidFill>
                <a:latin typeface="Calibri"/>
                <a:ea typeface="Calibri"/>
              </a:rPr>
              <a:t>w lata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f7f7f"/>
                </a:solidFill>
                <a:latin typeface="Calibri"/>
                <a:ea typeface="Calibri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Grupa 3"/>
          <p:cNvGrpSpPr/>
          <p:nvPr/>
        </p:nvGrpSpPr>
        <p:grpSpPr>
          <a:xfrm>
            <a:off x="2982960" y="1639800"/>
            <a:ext cx="5429160" cy="4676760"/>
            <a:chOff x="2982960" y="1639800"/>
            <a:chExt cx="5429160" cy="4676760"/>
          </a:xfrm>
        </p:grpSpPr>
        <p:pic>
          <p:nvPicPr>
            <p:cNvPr id="488" name="Picture 24" descr="C:\Users\Pawel_Zdun\Desktop\mapa.gif"/>
            <p:cNvPicPr/>
            <p:nvPr/>
          </p:nvPicPr>
          <p:blipFill>
            <a:blip r:embed="rId1"/>
            <a:stretch/>
          </p:blipFill>
          <p:spPr>
            <a:xfrm>
              <a:off x="2982960" y="1639800"/>
              <a:ext cx="542916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Grupa 6" descr=""/>
            <p:cNvPicPr/>
            <p:nvPr/>
          </p:nvPicPr>
          <p:blipFill>
            <a:blip r:embed="rId2"/>
            <a:stretch/>
          </p:blipFill>
          <p:spPr>
            <a:xfrm>
              <a:off x="4675680" y="480960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Grupa 7" descr=""/>
            <p:cNvPicPr/>
            <p:nvPr/>
          </p:nvPicPr>
          <p:blipFill>
            <a:blip r:embed="rId3"/>
            <a:stretch/>
          </p:blipFill>
          <p:spPr>
            <a:xfrm>
              <a:off x="3468600" y="2383200"/>
              <a:ext cx="6519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Grupa 8" descr=""/>
            <p:cNvPicPr/>
            <p:nvPr/>
          </p:nvPicPr>
          <p:blipFill>
            <a:blip r:embed="rId4"/>
            <a:stretch/>
          </p:blipFill>
          <p:spPr>
            <a:xfrm>
              <a:off x="4651200" y="191988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Grupa 9" descr=""/>
            <p:cNvPicPr/>
            <p:nvPr/>
          </p:nvPicPr>
          <p:blipFill>
            <a:blip r:embed="rId5"/>
            <a:stretch/>
          </p:blipFill>
          <p:spPr>
            <a:xfrm>
              <a:off x="6217920" y="217008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Grupa 10" descr=""/>
            <p:cNvPicPr/>
            <p:nvPr/>
          </p:nvPicPr>
          <p:blipFill>
            <a:blip r:embed="rId6"/>
            <a:stretch/>
          </p:blipFill>
          <p:spPr>
            <a:xfrm>
              <a:off x="7491960" y="274284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Grupa 11" descr=""/>
            <p:cNvPicPr/>
            <p:nvPr/>
          </p:nvPicPr>
          <p:blipFill>
            <a:blip r:embed="rId7"/>
            <a:stretch/>
          </p:blipFill>
          <p:spPr>
            <a:xfrm>
              <a:off x="5047560" y="280404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Grupa 12" descr=""/>
            <p:cNvPicPr/>
            <p:nvPr/>
          </p:nvPicPr>
          <p:blipFill>
            <a:blip r:embed="rId8"/>
            <a:stretch/>
          </p:blipFill>
          <p:spPr>
            <a:xfrm>
              <a:off x="6473880" y="303552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Grupa 13" descr=""/>
            <p:cNvPicPr/>
            <p:nvPr/>
          </p:nvPicPr>
          <p:blipFill>
            <a:blip r:embed="rId9"/>
            <a:stretch/>
          </p:blipFill>
          <p:spPr>
            <a:xfrm>
              <a:off x="7388280" y="421848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Grupa 14" descr=""/>
            <p:cNvPicPr/>
            <p:nvPr/>
          </p:nvPicPr>
          <p:blipFill>
            <a:blip r:embed="rId10"/>
            <a:stretch/>
          </p:blipFill>
          <p:spPr>
            <a:xfrm>
              <a:off x="5407200" y="4065840"/>
              <a:ext cx="6519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Grupa 15" descr=""/>
            <p:cNvPicPr/>
            <p:nvPr/>
          </p:nvPicPr>
          <p:blipFill>
            <a:blip r:embed="rId11"/>
            <a:stretch/>
          </p:blipFill>
          <p:spPr>
            <a:xfrm>
              <a:off x="4352400" y="3456360"/>
              <a:ext cx="64620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Grupa 16" descr=""/>
            <p:cNvPicPr/>
            <p:nvPr/>
          </p:nvPicPr>
          <p:blipFill>
            <a:blip r:embed="rId12"/>
            <a:stretch/>
          </p:blipFill>
          <p:spPr>
            <a:xfrm>
              <a:off x="5370480" y="3005280"/>
              <a:ext cx="1755720" cy="167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Grupa 17" descr=""/>
            <p:cNvPicPr/>
            <p:nvPr/>
          </p:nvPicPr>
          <p:blipFill>
            <a:blip r:embed="rId13"/>
            <a:stretch/>
          </p:blipFill>
          <p:spPr>
            <a:xfrm>
              <a:off x="3242880" y="3486960"/>
              <a:ext cx="6519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Grupa 18" descr=""/>
            <p:cNvPicPr/>
            <p:nvPr/>
          </p:nvPicPr>
          <p:blipFill>
            <a:blip r:embed="rId14"/>
            <a:stretch/>
          </p:blipFill>
          <p:spPr>
            <a:xfrm>
              <a:off x="3864600" y="4340160"/>
              <a:ext cx="6519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Grupa 19" descr=""/>
            <p:cNvPicPr/>
            <p:nvPr/>
          </p:nvPicPr>
          <p:blipFill>
            <a:blip r:embed="rId15"/>
            <a:stretch/>
          </p:blipFill>
          <p:spPr>
            <a:xfrm>
              <a:off x="5358240" y="480960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Grupa 20" descr=""/>
            <p:cNvPicPr/>
            <p:nvPr/>
          </p:nvPicPr>
          <p:blipFill>
            <a:blip r:embed="rId16"/>
            <a:stretch/>
          </p:blipFill>
          <p:spPr>
            <a:xfrm>
              <a:off x="5992560" y="5352120"/>
              <a:ext cx="6519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Grupa 21" descr=""/>
            <p:cNvPicPr/>
            <p:nvPr/>
          </p:nvPicPr>
          <p:blipFill>
            <a:blip r:embed="rId17"/>
            <a:stretch/>
          </p:blipFill>
          <p:spPr>
            <a:xfrm>
              <a:off x="6248520" y="4651200"/>
              <a:ext cx="6519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Grupa 22" descr=""/>
            <p:cNvPicPr/>
            <p:nvPr/>
          </p:nvPicPr>
          <p:blipFill>
            <a:blip r:embed="rId18"/>
            <a:stretch/>
          </p:blipFill>
          <p:spPr>
            <a:xfrm>
              <a:off x="7028640" y="5364360"/>
              <a:ext cx="646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Strzałka w prawo 23"/>
            <p:cNvSpPr/>
            <p:nvPr/>
          </p:nvSpPr>
          <p:spPr>
            <a:xfrm rot="17727600">
              <a:off x="6516000" y="2503800"/>
              <a:ext cx="771480" cy="652320"/>
            </a:xfrm>
            <a:prstGeom prst="rightArrow">
              <a:avLst>
                <a:gd name="adj1" fmla="val 50000"/>
                <a:gd name="adj2" fmla="val 45609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Strzałka w prawo 24"/>
            <p:cNvSpPr/>
            <p:nvPr/>
          </p:nvSpPr>
          <p:spPr>
            <a:xfrm>
              <a:off x="7170840" y="3574800"/>
              <a:ext cx="844560" cy="468000"/>
            </a:xfrm>
            <a:prstGeom prst="rightArrow">
              <a:avLst>
                <a:gd name="adj1" fmla="val 50000"/>
                <a:gd name="adj2" fmla="val 54857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Strzałka w prawo 25"/>
            <p:cNvSpPr/>
            <p:nvPr/>
          </p:nvSpPr>
          <p:spPr>
            <a:xfrm rot="3532200">
              <a:off x="6487200" y="4658040"/>
              <a:ext cx="1176120" cy="625320"/>
            </a:xfrm>
            <a:prstGeom prst="rightArrow">
              <a:avLst>
                <a:gd name="adj1" fmla="val 50000"/>
                <a:gd name="adj2" fmla="val 45610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Strzałka w prawo 26"/>
            <p:cNvSpPr/>
            <p:nvPr/>
          </p:nvSpPr>
          <p:spPr>
            <a:xfrm rot="7036200">
              <a:off x="5154120" y="4525200"/>
              <a:ext cx="769680" cy="585720"/>
            </a:xfrm>
            <a:prstGeom prst="rightArrow">
              <a:avLst>
                <a:gd name="adj1" fmla="val 50000"/>
                <a:gd name="adj2" fmla="val 45591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Strzałka w prawo 27"/>
            <p:cNvSpPr/>
            <p:nvPr/>
          </p:nvSpPr>
          <p:spPr>
            <a:xfrm rot="10800000">
              <a:off x="3894120" y="3499920"/>
              <a:ext cx="1441440" cy="631800"/>
            </a:xfrm>
            <a:prstGeom prst="rightArrow">
              <a:avLst>
                <a:gd name="adj1" fmla="val 50000"/>
                <a:gd name="adj2" fmla="val 54819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Strzałka w prawo 28"/>
            <p:cNvSpPr/>
            <p:nvPr/>
          </p:nvSpPr>
          <p:spPr>
            <a:xfrm rot="14496000">
              <a:off x="4940280" y="2455200"/>
              <a:ext cx="958680" cy="596880"/>
            </a:xfrm>
            <a:prstGeom prst="rightArrow">
              <a:avLst>
                <a:gd name="adj1" fmla="val 50000"/>
                <a:gd name="adj2" fmla="val 45597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upa 3"/>
          <p:cNvGrpSpPr/>
          <p:nvPr/>
        </p:nvGrpSpPr>
        <p:grpSpPr>
          <a:xfrm>
            <a:off x="2390760" y="4583160"/>
            <a:ext cx="1903320" cy="1666800"/>
            <a:chOff x="2390760" y="4583160"/>
            <a:chExt cx="1903320" cy="1666800"/>
          </a:xfrm>
        </p:grpSpPr>
        <p:pic>
          <p:nvPicPr>
            <p:cNvPr id="513" name="Picture 24" descr="C:\Users\Pawel_Zdun\Desktop\mapa.gif"/>
            <p:cNvPicPr/>
            <p:nvPr/>
          </p:nvPicPr>
          <p:blipFill>
            <a:blip r:embed="rId1"/>
            <a:stretch/>
          </p:blipFill>
          <p:spPr>
            <a:xfrm>
              <a:off x="2390760" y="4583160"/>
              <a:ext cx="190332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Grupa 44" descr=""/>
            <p:cNvPicPr/>
            <p:nvPr/>
          </p:nvPicPr>
          <p:blipFill>
            <a:blip r:embed="rId2"/>
            <a:stretch/>
          </p:blipFill>
          <p:spPr>
            <a:xfrm>
              <a:off x="3188160" y="5041440"/>
              <a:ext cx="694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Strzałka w prawo 45"/>
            <p:cNvSpPr/>
            <p:nvPr/>
          </p:nvSpPr>
          <p:spPr>
            <a:xfrm rot="17727600">
              <a:off x="3627000" y="4892400"/>
              <a:ext cx="274680" cy="230040"/>
            </a:xfrm>
            <a:prstGeom prst="rightArrow">
              <a:avLst>
                <a:gd name="adj1" fmla="val 50000"/>
                <a:gd name="adj2" fmla="val 46397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Strzałka w prawo 46"/>
            <p:cNvSpPr/>
            <p:nvPr/>
          </p:nvSpPr>
          <p:spPr>
            <a:xfrm>
              <a:off x="3859200" y="5273640"/>
              <a:ext cx="296640" cy="166680"/>
            </a:xfrm>
            <a:prstGeom prst="rightArrow">
              <a:avLst>
                <a:gd name="adj1" fmla="val 50000"/>
                <a:gd name="adj2" fmla="val 53885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Strzałka w prawo 47"/>
            <p:cNvSpPr/>
            <p:nvPr/>
          </p:nvSpPr>
          <p:spPr>
            <a:xfrm rot="3532200">
              <a:off x="3615840" y="5661000"/>
              <a:ext cx="419040" cy="218880"/>
            </a:xfrm>
            <a:prstGeom prst="rightArrow">
              <a:avLst>
                <a:gd name="adj1" fmla="val 50000"/>
                <a:gd name="adj2" fmla="val 46399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Strzałka w prawo 48"/>
            <p:cNvSpPr/>
            <p:nvPr/>
          </p:nvSpPr>
          <p:spPr>
            <a:xfrm rot="7036200">
              <a:off x="3149280" y="5613120"/>
              <a:ext cx="274680" cy="204480"/>
            </a:xfrm>
            <a:prstGeom prst="rightArrow">
              <a:avLst>
                <a:gd name="adj1" fmla="val 50000"/>
                <a:gd name="adj2" fmla="val 46437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Strzałka w prawo 49"/>
            <p:cNvSpPr/>
            <p:nvPr/>
          </p:nvSpPr>
          <p:spPr>
            <a:xfrm rot="10800000">
              <a:off x="2709720" y="5246280"/>
              <a:ext cx="504720" cy="223560"/>
            </a:xfrm>
            <a:prstGeom prst="rightArrow">
              <a:avLst>
                <a:gd name="adj1" fmla="val 50000"/>
                <a:gd name="adj2" fmla="val 53974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Strzałka w prawo 50"/>
            <p:cNvSpPr/>
            <p:nvPr/>
          </p:nvSpPr>
          <p:spPr>
            <a:xfrm rot="14496000">
              <a:off x="3072960" y="4874760"/>
              <a:ext cx="342720" cy="209520"/>
            </a:xfrm>
            <a:prstGeom prst="rightArrow">
              <a:avLst>
                <a:gd name="adj1" fmla="val 50000"/>
                <a:gd name="adj2" fmla="val 46346"/>
              </a:avLst>
            </a:prstGeom>
            <a:solidFill>
              <a:srgbClr val="ff9933">
                <a:alpha val="49000"/>
              </a:srgbClr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Grupa 1"/>
          <p:cNvGrpSpPr/>
          <p:nvPr/>
        </p:nvGrpSpPr>
        <p:grpSpPr>
          <a:xfrm>
            <a:off x="6762600" y="4508640"/>
            <a:ext cx="2021040" cy="1746000"/>
            <a:chOff x="6762600" y="4508640"/>
            <a:chExt cx="2021040" cy="1746000"/>
          </a:xfrm>
        </p:grpSpPr>
        <p:grpSp>
          <p:nvGrpSpPr>
            <p:cNvPr id="522" name="Grupa 3"/>
            <p:cNvGrpSpPr/>
            <p:nvPr/>
          </p:nvGrpSpPr>
          <p:grpSpPr>
            <a:xfrm>
              <a:off x="6762600" y="4508640"/>
              <a:ext cx="2021040" cy="1746000"/>
              <a:chOff x="6762600" y="4508640"/>
              <a:chExt cx="2021040" cy="1746000"/>
            </a:xfrm>
          </p:grpSpPr>
          <p:pic>
            <p:nvPicPr>
              <p:cNvPr id="523" name="Picture 24" descr="C:\Users\Pawel_Zdun\Desktop\mapa.gif"/>
              <p:cNvPicPr/>
              <p:nvPr/>
            </p:nvPicPr>
            <p:blipFill>
              <a:blip r:embed="rId3"/>
              <a:stretch/>
            </p:blipFill>
            <p:spPr>
              <a:xfrm>
                <a:off x="6762600" y="4508640"/>
                <a:ext cx="2021040" cy="17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Sześciokąt 25"/>
              <p:cNvSpPr/>
              <p:nvPr/>
            </p:nvSpPr>
            <p:spPr>
              <a:xfrm rot="5400000">
                <a:off x="7425720" y="5700600"/>
                <a:ext cx="174600" cy="164880"/>
              </a:xfrm>
              <a:prstGeom prst="hexagon">
                <a:avLst>
                  <a:gd name="adj" fmla="val 2290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Sześciokąt 26"/>
              <p:cNvSpPr/>
              <p:nvPr/>
            </p:nvSpPr>
            <p:spPr>
              <a:xfrm rot="5400000">
                <a:off x="6976440" y="4793760"/>
                <a:ext cx="172800" cy="166680"/>
              </a:xfrm>
              <a:prstGeom prst="hexagon">
                <a:avLst>
                  <a:gd name="adj" fmla="val 22841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6" name="Grupa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7351560" y="4602600"/>
                <a:ext cx="316800" cy="2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Sześciokąt 28"/>
              <p:cNvSpPr/>
              <p:nvPr/>
            </p:nvSpPr>
            <p:spPr>
              <a:xfrm rot="5400000">
                <a:off x="8000640" y="4714920"/>
                <a:ext cx="174600" cy="164880"/>
              </a:xfrm>
              <a:prstGeom prst="hexagon">
                <a:avLst>
                  <a:gd name="adj" fmla="val 2290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Sześciokąt 29"/>
              <p:cNvSpPr/>
              <p:nvPr/>
            </p:nvSpPr>
            <p:spPr>
              <a:xfrm rot="5400000">
                <a:off x="7563960" y="4951440"/>
                <a:ext cx="174600" cy="164880"/>
              </a:xfrm>
              <a:prstGeom prst="hexagon">
                <a:avLst>
                  <a:gd name="adj" fmla="val 2290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Sześciokąt 30"/>
              <p:cNvSpPr/>
              <p:nvPr/>
            </p:nvSpPr>
            <p:spPr>
              <a:xfrm rot="5400000">
                <a:off x="8104320" y="5212440"/>
                <a:ext cx="172800" cy="168120"/>
              </a:xfrm>
              <a:prstGeom prst="hexagon">
                <a:avLst>
                  <a:gd name="adj" fmla="val 22864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Sześciokąt 31"/>
              <p:cNvSpPr/>
              <p:nvPr/>
            </p:nvSpPr>
            <p:spPr>
              <a:xfrm rot="5400000">
                <a:off x="8436600" y="5479200"/>
                <a:ext cx="174600" cy="166680"/>
              </a:xfrm>
              <a:prstGeom prst="hexagon">
                <a:avLst>
                  <a:gd name="adj" fmla="val 2287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Sześciokąt 32"/>
              <p:cNvSpPr/>
              <p:nvPr/>
            </p:nvSpPr>
            <p:spPr>
              <a:xfrm rot="5400000">
                <a:off x="7698960" y="5422680"/>
                <a:ext cx="172800" cy="166680"/>
              </a:xfrm>
              <a:prstGeom prst="hexagon">
                <a:avLst>
                  <a:gd name="adj" fmla="val 22841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Sześciokąt 33"/>
              <p:cNvSpPr/>
              <p:nvPr/>
            </p:nvSpPr>
            <p:spPr>
              <a:xfrm rot="5400000">
                <a:off x="7305120" y="5194440"/>
                <a:ext cx="174600" cy="168120"/>
              </a:xfrm>
              <a:prstGeom prst="hexagon">
                <a:avLst>
                  <a:gd name="adj" fmla="val 22891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Sześciokąt 34"/>
              <p:cNvSpPr/>
              <p:nvPr/>
            </p:nvSpPr>
            <p:spPr>
              <a:xfrm rot="5400000">
                <a:off x="6892920" y="5206320"/>
                <a:ext cx="174600" cy="166680"/>
              </a:xfrm>
              <a:prstGeom prst="hexagon">
                <a:avLst>
                  <a:gd name="adj" fmla="val 2287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Sześciokąt 35"/>
              <p:cNvSpPr/>
              <p:nvPr/>
            </p:nvSpPr>
            <p:spPr>
              <a:xfrm rot="5400000">
                <a:off x="7124040" y="5524560"/>
                <a:ext cx="174600" cy="168120"/>
              </a:xfrm>
              <a:prstGeom prst="hexagon">
                <a:avLst>
                  <a:gd name="adj" fmla="val 22891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Sześciokąt 36"/>
              <p:cNvSpPr/>
              <p:nvPr/>
            </p:nvSpPr>
            <p:spPr>
              <a:xfrm rot="5400000">
                <a:off x="7680600" y="5699880"/>
                <a:ext cx="174600" cy="166680"/>
              </a:xfrm>
              <a:prstGeom prst="hexagon">
                <a:avLst>
                  <a:gd name="adj" fmla="val 2287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Sześciokąt 37"/>
              <p:cNvSpPr/>
              <p:nvPr/>
            </p:nvSpPr>
            <p:spPr>
              <a:xfrm rot="5400000">
                <a:off x="7916400" y="5904000"/>
                <a:ext cx="174600" cy="164880"/>
              </a:xfrm>
              <a:prstGeom prst="hexagon">
                <a:avLst>
                  <a:gd name="adj" fmla="val 22900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Sześciokąt 38"/>
              <p:cNvSpPr/>
              <p:nvPr/>
            </p:nvSpPr>
            <p:spPr>
              <a:xfrm rot="5400000">
                <a:off x="8013240" y="5640120"/>
                <a:ext cx="172800" cy="166680"/>
              </a:xfrm>
              <a:prstGeom prst="hexagon">
                <a:avLst>
                  <a:gd name="adj" fmla="val 22841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Sześciokąt 39"/>
              <p:cNvSpPr/>
              <p:nvPr/>
            </p:nvSpPr>
            <p:spPr>
              <a:xfrm rot="5400000">
                <a:off x="8301240" y="5906160"/>
                <a:ext cx="172800" cy="168120"/>
              </a:xfrm>
              <a:prstGeom prst="hexagon">
                <a:avLst>
                  <a:gd name="adj" fmla="val 22864"/>
                  <a:gd name="vf" fmla="val 115470"/>
                </a:avLst>
              </a:prstGeom>
              <a:solidFill>
                <a:srgbClr val="595959">
                  <a:alpha val="76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Sześciokąt 4"/>
            <p:cNvSpPr/>
            <p:nvPr/>
          </p:nvSpPr>
          <p:spPr>
            <a:xfrm>
              <a:off x="7929360" y="475452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Sześciokąt 9"/>
            <p:cNvSpPr/>
            <p:nvPr/>
          </p:nvSpPr>
          <p:spPr>
            <a:xfrm rot="5400000">
              <a:off x="8478360" y="4935600"/>
              <a:ext cx="174600" cy="168120"/>
            </a:xfrm>
            <a:prstGeom prst="hexagon">
              <a:avLst>
                <a:gd name="adj" fmla="val 22910"/>
                <a:gd name="vf" fmla="val 115470"/>
              </a:avLst>
            </a:prstGeom>
            <a:solidFill>
              <a:srgbClr val="595959">
                <a:alpha val="76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Sześciokąt 4"/>
            <p:cNvSpPr/>
            <p:nvPr/>
          </p:nvSpPr>
          <p:spPr>
            <a:xfrm>
              <a:off x="8407440" y="497988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eściokąt 4"/>
            <p:cNvSpPr/>
            <p:nvPr/>
          </p:nvSpPr>
          <p:spPr>
            <a:xfrm>
              <a:off x="8032680" y="525636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Sześciokąt 4"/>
            <p:cNvSpPr/>
            <p:nvPr/>
          </p:nvSpPr>
          <p:spPr>
            <a:xfrm>
              <a:off x="8364600" y="552132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Sześciokąt 4"/>
            <p:cNvSpPr/>
            <p:nvPr/>
          </p:nvSpPr>
          <p:spPr>
            <a:xfrm>
              <a:off x="7940520" y="568656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Sześciokąt 4"/>
            <p:cNvSpPr/>
            <p:nvPr/>
          </p:nvSpPr>
          <p:spPr>
            <a:xfrm>
              <a:off x="8229600" y="595008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Sześciokąt 4"/>
            <p:cNvSpPr/>
            <p:nvPr/>
          </p:nvSpPr>
          <p:spPr>
            <a:xfrm>
              <a:off x="7845480" y="595008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Sześciokąt 4"/>
            <p:cNvSpPr/>
            <p:nvPr/>
          </p:nvSpPr>
          <p:spPr>
            <a:xfrm>
              <a:off x="7626240" y="546588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Sześciokąt 4"/>
            <p:cNvSpPr/>
            <p:nvPr/>
          </p:nvSpPr>
          <p:spPr>
            <a:xfrm>
              <a:off x="7492680" y="499752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Sześciokąt 4"/>
            <p:cNvSpPr/>
            <p:nvPr/>
          </p:nvSpPr>
          <p:spPr>
            <a:xfrm>
              <a:off x="7234200" y="523548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Sześciokąt 4"/>
            <p:cNvSpPr/>
            <p:nvPr/>
          </p:nvSpPr>
          <p:spPr>
            <a:xfrm>
              <a:off x="6905160" y="483876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Sześciokąt 4"/>
            <p:cNvSpPr/>
            <p:nvPr/>
          </p:nvSpPr>
          <p:spPr>
            <a:xfrm>
              <a:off x="7354800" y="574344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Sześciokąt 4"/>
            <p:cNvSpPr/>
            <p:nvPr/>
          </p:nvSpPr>
          <p:spPr>
            <a:xfrm>
              <a:off x="7613640" y="5743440"/>
              <a:ext cx="31752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Sześciokąt 4"/>
            <p:cNvSpPr/>
            <p:nvPr/>
          </p:nvSpPr>
          <p:spPr>
            <a:xfrm>
              <a:off x="6821280" y="524340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Sześciokąt 4"/>
            <p:cNvSpPr/>
            <p:nvPr/>
          </p:nvSpPr>
          <p:spPr>
            <a:xfrm>
              <a:off x="7053120" y="5570640"/>
              <a:ext cx="3189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16200" bIns="-16200" anchor="ctr">
              <a:noAutofit/>
            </a:bodyPr>
            <a:p>
              <a:pPr algn="ctr">
                <a:lnSpc>
                  <a:spcPct val="90000"/>
                </a:lnSpc>
                <a:spcAft>
                  <a:spcPts val="213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500" spc="-1" strike="noStrike">
                  <a:solidFill>
                    <a:srgbClr val="ffffff"/>
                  </a:solidFill>
                  <a:latin typeface="Calibri"/>
                </a:rPr>
                <a:t>RP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Prostokąt zaokrąglony 5"/>
          <p:cNvSpPr/>
          <p:nvPr/>
        </p:nvSpPr>
        <p:spPr>
          <a:xfrm>
            <a:off x="4732200" y="1407960"/>
            <a:ext cx="4283280" cy="4969080"/>
          </a:xfrm>
          <a:custGeom>
            <a:avLst/>
            <a:gdLst>
              <a:gd name="textAreaLeft" fmla="*/ 208800 w 4283280"/>
              <a:gd name="textAreaRight" fmla="*/ 4074480 w 4283280"/>
              <a:gd name="textAreaTop" fmla="*/ 208800 h 4969080"/>
              <a:gd name="textAreaBottom" fmla="*/ 4760280 h 4969080"/>
            </a:gdLst>
            <a:ahLst/>
            <a:rect l="textAreaLeft" t="textAreaTop" r="textAreaRight" b="textAreaBottom"/>
            <a:pathLst>
              <a:path w="21600" h="25058">
                <a:moveTo>
                  <a:pt x="3600" y="0"/>
                </a:moveTo>
                <a:arcTo wR="3600" hR="3600" stAng="16200000" swAng="-5400000"/>
                <a:lnTo>
                  <a:pt x="0" y="21458"/>
                </a:lnTo>
                <a:arcTo wR="3600" hR="3600" stAng="10800000" swAng="-5400000"/>
                <a:lnTo>
                  <a:pt x="18000" y="25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Calibri"/>
                <a:ea typeface="Calibri"/>
              </a:rPr>
              <a:t>66% EF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R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zpośrednie wsparcie osób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celu poprawy ich sytuacji na ryn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rostokąt zaokrąglony 6"/>
          <p:cNvSpPr/>
          <p:nvPr/>
        </p:nvSpPr>
        <p:spPr>
          <a:xfrm>
            <a:off x="155520" y="1407960"/>
            <a:ext cx="4322880" cy="4942080"/>
          </a:xfrm>
          <a:custGeom>
            <a:avLst/>
            <a:gdLst>
              <a:gd name="textAreaLeft" fmla="*/ 210960 w 4322880"/>
              <a:gd name="textAreaRight" fmla="*/ 4111920 w 4322880"/>
              <a:gd name="textAreaTop" fmla="*/ 210960 h 4942080"/>
              <a:gd name="textAreaBottom" fmla="*/ 4731120 h 4942080"/>
            </a:gdLst>
            <a:ahLst/>
            <a:rect l="textAreaLeft" t="textAreaTop" r="textAreaRight" b="textAreaBottom"/>
            <a:pathLst>
              <a:path w="21600" h="24694">
                <a:moveTo>
                  <a:pt x="3600" y="0"/>
                </a:moveTo>
                <a:arcTo wR="3600" hR="3600" stAng="16200000" swAng="-5400000"/>
                <a:lnTo>
                  <a:pt x="0" y="21094"/>
                </a:lnTo>
                <a:arcTo wR="3600" hR="3600" stAng="10800000" swAng="-5400000"/>
                <a:lnTo>
                  <a:pt x="18000" y="24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Calibri"/>
                <a:ea typeface="Calibri"/>
              </a:rPr>
              <a:t>34% EF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PO 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prawa ram funkcjonowania poszczególnych polityk sektor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terwencja w obszarach, dla których większą efektywność zapewni wsparcie z poziomu krajoweg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parcie osób młod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zkolnictwo wyżs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nowacje społeczne, mobilność, współpraca ponadnarod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ole tekstowe 1"/>
          <p:cNvSpPr/>
          <p:nvPr/>
        </p:nvSpPr>
        <p:spPr>
          <a:xfrm>
            <a:off x="1979640" y="884160"/>
            <a:ext cx="52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EFS w Polsce – ok. 13,2 mld e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8196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Struktura PO WER - ok. 4,37 mld e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8000" y="1952640"/>
            <a:ext cx="7638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oby młode na rynku pr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I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ywne polityki publiczne dla rynku pracy, gospodarki i eduk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II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olnictwo wyższe dla gospodarki i rozwoj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IV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nowacje społeczne i współpraca ponadnarod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V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parcie dla obszaru zdrow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ś V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moc Technic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Wykres 3" descr=""/>
          <p:cNvPicPr/>
          <p:nvPr/>
        </p:nvPicPr>
        <p:blipFill>
          <a:blip r:embed="rId1"/>
          <a:stretch/>
        </p:blipFill>
        <p:spPr>
          <a:xfrm>
            <a:off x="5772240" y="4078440"/>
            <a:ext cx="34812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ole tekstowe 1"/>
          <p:cNvSpPr/>
          <p:nvPr/>
        </p:nvSpPr>
        <p:spPr>
          <a:xfrm>
            <a:off x="5740560" y="5288040"/>
            <a:ext cx="34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d9d9d9"/>
                </a:solidFill>
                <a:latin typeface="Arial Black"/>
              </a:rPr>
              <a:t>CT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ytuł 1"/>
          <p:cNvSpPr/>
          <p:nvPr/>
        </p:nvSpPr>
        <p:spPr>
          <a:xfrm>
            <a:off x="0" y="955800"/>
            <a:ext cx="89359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9933"/>
                </a:solidFill>
                <a:latin typeface="Calibri"/>
              </a:rPr>
              <a:t>Oś I – Osoby młode na rynku p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rostokąt zaokrąglony 3"/>
          <p:cNvSpPr/>
          <p:nvPr/>
        </p:nvSpPr>
        <p:spPr>
          <a:xfrm>
            <a:off x="379440" y="1608120"/>
            <a:ext cx="7405560" cy="3860640"/>
          </a:xfrm>
          <a:prstGeom prst="roundRect">
            <a:avLst>
              <a:gd name="adj" fmla="val 16667"/>
            </a:avLst>
          </a:prstGeom>
          <a:solidFill>
            <a:srgbClr val="ed7d31">
              <a:alpha val="24000"/>
            </a:srgbClr>
          </a:solidFill>
          <a:ln w="9360">
            <a:solidFill>
              <a:srgbClr val="595959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większenie możliwości zatrudnieni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sób młodych do 29 r.ż.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bez pracy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ależących do kategorii NEET.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sparcie indywidualnej i kompleksowej aktywizacji zawodowo-edukacyjnej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sób młodych (bezrobotnych, biernych zawodowo oraz poszukujących pracy, w tym także niezarejestrowanych w urzędzie pracy)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Usługi i instrumenty rynku pracy, które opierać się będą na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 najmniej trzech elementach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indywidualnej i kompleksowej pomocy  - dwa z nich wskazane zostały jako obligatoryjne, trzeci i kolejne – fakultatywne – wybierane są w zależności od potrzeb i możliwości, którym udzielane jest wsparci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Efektywność zatrudnieniow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Grupa 3" descr=""/>
          <p:cNvPicPr/>
          <p:nvPr/>
        </p:nvPicPr>
        <p:blipFill>
          <a:blip r:embed="rId1"/>
          <a:stretch/>
        </p:blipFill>
        <p:spPr>
          <a:xfrm>
            <a:off x="2139840" y="4950000"/>
            <a:ext cx="1054080" cy="1017360"/>
          </a:xfrm>
          <a:prstGeom prst="rect">
            <a:avLst/>
          </a:prstGeom>
          <a:ln w="0">
            <a:noFill/>
          </a:ln>
        </p:spPr>
      </p:pic>
      <p:sp>
        <p:nvSpPr>
          <p:cNvPr id="565" name="Prostokąt zaokrąglony 15"/>
          <p:cNvSpPr/>
          <p:nvPr/>
        </p:nvSpPr>
        <p:spPr>
          <a:xfrm>
            <a:off x="3052800" y="5295960"/>
            <a:ext cx="3117960" cy="1377720"/>
          </a:xfrm>
          <a:prstGeom prst="roundRect">
            <a:avLst>
              <a:gd name="adj" fmla="val 16667"/>
            </a:avLst>
          </a:prstGeom>
          <a:solidFill>
            <a:srgbClr val="d9d9d9">
              <a:alpha val="26000"/>
            </a:srgbClr>
          </a:solidFill>
          <a:ln w="9360">
            <a:solidFill>
              <a:srgbClr val="7f7f7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pośrednie wsparcie dla osób powyżej 29 r.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e tekstowe 7"/>
          <p:cNvSpPr/>
          <p:nvPr/>
        </p:nvSpPr>
        <p:spPr>
          <a:xfrm>
            <a:off x="4697280" y="609912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9933"/>
                </a:solidFill>
                <a:latin typeface="Arial"/>
              </a:rPr>
              <a:t>RP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2040" y="1099800"/>
            <a:ext cx="78865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9933"/>
                </a:solidFill>
                <a:latin typeface="Calibri"/>
              </a:rPr>
              <a:t>Oś I – Osoby młode na rynku pracy – podział alokacj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Symbol zastępczy zawartości 3" descr=""/>
          <p:cNvPicPr/>
          <p:nvPr/>
        </p:nvPicPr>
        <p:blipFill>
          <a:blip r:embed="rId1"/>
          <a:stretch/>
        </p:blipFill>
        <p:spPr>
          <a:xfrm>
            <a:off x="739800" y="1812960"/>
            <a:ext cx="7629480" cy="5019480"/>
          </a:xfrm>
          <a:prstGeom prst="rect">
            <a:avLst/>
          </a:prstGeom>
          <a:ln w="0">
            <a:noFill/>
          </a:ln>
        </p:spPr>
      </p:pic>
      <p:sp>
        <p:nvSpPr>
          <p:cNvPr id="569" name="pole tekstowe 6"/>
          <p:cNvSpPr/>
          <p:nvPr/>
        </p:nvSpPr>
        <p:spPr>
          <a:xfrm>
            <a:off x="3786120" y="1447920"/>
            <a:ext cx="8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99760" y="1079280"/>
            <a:ext cx="78865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9933"/>
                </a:solidFill>
                <a:latin typeface="Calibri"/>
              </a:rPr>
              <a:t>Oś I – Osoby młode na rynku prac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6160" y="4932360"/>
            <a:ext cx="8704080" cy="1062000"/>
          </a:xfrm>
          <a:prstGeom prst="rect">
            <a:avLst/>
          </a:prstGeom>
          <a:solidFill>
            <a:srgbClr val="d9d9d9">
              <a:alpha val="30000"/>
            </a:srgbClr>
          </a:solidFill>
          <a:ln w="9360">
            <a:solidFill>
              <a:srgbClr val="e7e6e6">
                <a:alpha val="19000"/>
              </a:srgbClr>
            </a:solidFill>
            <a:round/>
          </a:ln>
        </p:spPr>
        <p:txBody>
          <a:bodyPr anchor="ctr">
            <a:norm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Powiatowe urzędy pracy, Ochotnicze Hufce Pracy, partnerzy społeczni, organizacje pozarządowe, niepubliczne agencje zatrudni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ole tekstowe 4" descr=""/>
          <p:cNvPicPr/>
          <p:nvPr/>
        </p:nvPicPr>
        <p:blipFill>
          <a:blip r:embed="rId1"/>
          <a:stretch/>
        </p:blipFill>
        <p:spPr>
          <a:xfrm>
            <a:off x="268200" y="4438800"/>
            <a:ext cx="7132680" cy="4935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upa 15"/>
          <p:cNvGrpSpPr/>
          <p:nvPr/>
        </p:nvGrpSpPr>
        <p:grpSpPr>
          <a:xfrm>
            <a:off x="146160" y="1636560"/>
            <a:ext cx="8793000" cy="2238480"/>
            <a:chOff x="146160" y="1636560"/>
            <a:chExt cx="8793000" cy="2238480"/>
          </a:xfrm>
        </p:grpSpPr>
        <p:sp>
          <p:nvSpPr>
            <p:cNvPr id="574" name="Prostokąt 6"/>
            <p:cNvSpPr/>
            <p:nvPr/>
          </p:nvSpPr>
          <p:spPr>
            <a:xfrm>
              <a:off x="146160" y="2040120"/>
              <a:ext cx="8793000" cy="1834920"/>
            </a:xfrm>
            <a:prstGeom prst="rect">
              <a:avLst/>
            </a:prstGeom>
            <a:solidFill>
              <a:srgbClr val="d9d9d9">
                <a:alpha val="30000"/>
              </a:srgbClr>
            </a:solidFill>
            <a:ln w="9360">
              <a:solidFill>
                <a:srgbClr val="e7e6e6">
                  <a:alpha val="1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81080" indent="-181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30% osób młodych poniżej 30 lat </a:t>
              </a: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zyska kwalifikacje po opuszczeniu program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75% osób bezrobotnych </a:t>
              </a: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trzyma ofertę pracy, kształcenia ustawicznego, przygotowania zawodowego lub staż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96%  osób biernych zawodowo nieuczestniczących w kształceniu lub szkoleniu</a:t>
              </a: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, ukończy interwencję wspieraną w ramach Inicjatywy na rzecz zatrudnienia ludzi młodych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pole tekstowe 7" descr=""/>
            <p:cNvPicPr/>
            <p:nvPr/>
          </p:nvPicPr>
          <p:blipFill>
            <a:blip r:embed="rId2"/>
            <a:stretch/>
          </p:blipFill>
          <p:spPr>
            <a:xfrm>
              <a:off x="237600" y="1636560"/>
              <a:ext cx="6943320" cy="48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ole tekstowe 1"/>
          <p:cNvSpPr/>
          <p:nvPr/>
        </p:nvSpPr>
        <p:spPr>
          <a:xfrm>
            <a:off x="469800" y="5556240"/>
            <a:ext cx="84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d9d9d9"/>
                </a:solidFill>
                <a:latin typeface="Arial Black"/>
              </a:rPr>
              <a:t>CT8,9,10,1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ytuł 1"/>
          <p:cNvSpPr/>
          <p:nvPr/>
        </p:nvSpPr>
        <p:spPr>
          <a:xfrm>
            <a:off x="0" y="1066680"/>
            <a:ext cx="8935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33"/>
                </a:solidFill>
                <a:latin typeface="Calibri"/>
              </a:rPr>
              <a:t>Oś II Efektywne polityki publiczne dla rynku pracy, gospodarki i eduk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rostokąt zaokrąglony 3"/>
          <p:cNvSpPr/>
          <p:nvPr/>
        </p:nvSpPr>
        <p:spPr>
          <a:xfrm>
            <a:off x="376200" y="1717560"/>
            <a:ext cx="8039160" cy="3838680"/>
          </a:xfrm>
          <a:prstGeom prst="roundRect">
            <a:avLst>
              <a:gd name="adj" fmla="val 16667"/>
            </a:avLst>
          </a:prstGeom>
          <a:solidFill>
            <a:srgbClr val="ed7d31">
              <a:alpha val="24000"/>
            </a:srgbClr>
          </a:solidFill>
          <a:ln w="9360">
            <a:solidFill>
              <a:srgbClr val="595959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ziałania dotycząc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drożenia reform systemów i struktur w wybranych obszarach polityk publicznych, kluczowych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 punktu widzenia strategii Europa 2020 i krajowych programów refor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ncentracja na działaniach dotyczących m.in.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odernizacji publicznych i niepublicznych służb zatrudnienia i lepszego dostosowania ich do potrzeb rynku p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inwestowania w kształcenie i szkolenie, w tym szkolenie zawodowe na rzecz zdobywania umiejętności i uczenie się przez całe życi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stosowania pracowników i przedsiębiorstw i przedsiębiorców do zmia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mowania włączenia społecznego i walki z ubóstwem oraz dyskryminacją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zmacniania zdolności instytucjonalnych organów publicznych i zainteresowanych stron z sektora publicznego oraz skuteczności administracj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rostokąt 10" descr=""/>
          <p:cNvPicPr/>
          <p:nvPr/>
        </p:nvPicPr>
        <p:blipFill>
          <a:blip r:embed="rId1"/>
          <a:stretch/>
        </p:blipFill>
        <p:spPr>
          <a:xfrm>
            <a:off x="0" y="5546880"/>
            <a:ext cx="90774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upa 15"/>
          <p:cNvGrpSpPr/>
          <p:nvPr/>
        </p:nvGrpSpPr>
        <p:grpSpPr>
          <a:xfrm>
            <a:off x="0" y="5553000"/>
            <a:ext cx="9072720" cy="1305000"/>
            <a:chOff x="0" y="5553000"/>
            <a:chExt cx="9072720" cy="1305000"/>
          </a:xfrm>
        </p:grpSpPr>
        <p:sp>
          <p:nvSpPr>
            <p:cNvPr id="581" name="Prostokąt 8"/>
            <p:cNvSpPr/>
            <p:nvPr/>
          </p:nvSpPr>
          <p:spPr>
            <a:xfrm>
              <a:off x="84600" y="5582160"/>
              <a:ext cx="8988120" cy="1275840"/>
            </a:xfrm>
            <a:prstGeom prst="rect">
              <a:avLst/>
            </a:prstGeom>
            <a:solidFill>
              <a:srgbClr val="d9d9d9">
                <a:alpha val="30000"/>
              </a:srgbClr>
            </a:solidFill>
            <a:ln w="9360">
              <a:solidFill>
                <a:srgbClr val="e7e6e6">
                  <a:alpha val="1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81080" indent="-181080"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czelnie i podmioty uprawnione do kształcenia na </a:t>
              </a:r>
              <a:br>
                <a:rPr sz="1800"/>
              </a:br>
              <a:r>
                <a:rPr b="0" lang="pl-P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oziomie wyższy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2" name="pole tekstowe 9" descr=""/>
            <p:cNvPicPr/>
            <p:nvPr/>
          </p:nvPicPr>
          <p:blipFill>
            <a:blip r:embed="rId1"/>
            <a:stretch/>
          </p:blipFill>
          <p:spPr>
            <a:xfrm>
              <a:off x="0" y="5553000"/>
              <a:ext cx="709452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pole tekstowe 1"/>
          <p:cNvSpPr/>
          <p:nvPr/>
        </p:nvSpPr>
        <p:spPr>
          <a:xfrm>
            <a:off x="4764240" y="5288040"/>
            <a:ext cx="437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d9d9d9"/>
                </a:solidFill>
                <a:latin typeface="Arial Black"/>
              </a:rPr>
              <a:t>CT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ytuł 1"/>
          <p:cNvSpPr/>
          <p:nvPr/>
        </p:nvSpPr>
        <p:spPr>
          <a:xfrm>
            <a:off x="0" y="968400"/>
            <a:ext cx="89359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Calibri"/>
              </a:rPr>
              <a:t>Oś III Szkolnictwo wyższe dla gospodarki i rozwo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rostokąt zaokrąglony 3"/>
          <p:cNvSpPr/>
          <p:nvPr/>
        </p:nvSpPr>
        <p:spPr>
          <a:xfrm>
            <a:off x="36360" y="1801800"/>
            <a:ext cx="8998200" cy="3316320"/>
          </a:xfrm>
          <a:prstGeom prst="roundRect">
            <a:avLst>
              <a:gd name="adj" fmla="val 16667"/>
            </a:avLst>
          </a:prstGeom>
          <a:solidFill>
            <a:srgbClr val="ed7d31">
              <a:alpha val="24000"/>
            </a:srgbClr>
          </a:solidFill>
          <a:ln w="9360">
            <a:solidFill>
              <a:srgbClr val="595959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dniesienie kompetencji osób uczestniczących w edukacji na poziomie wyższym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powiadających potrzebom gospodarki, rynku pracy i społeczeńst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większenie jakości i efektywności kształceni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 studiach doktoranck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parcie zmian organizacyjnych i podniesienie kompetencji kadr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ystemie szkolnictwa wyższ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0:42:36Z</dcterms:created>
  <dc:creator>Pawel Ziemiecki</dc:creator>
  <dc:description/>
  <dc:language>en-US</dc:language>
  <cp:lastModifiedBy>Anna Bugalska</cp:lastModifiedBy>
  <cp:lastPrinted>2015-05-25T08:32:40Z</cp:lastPrinted>
  <dcterms:modified xsi:type="dcterms:W3CDTF">2015-05-25T12:33:43Z</dcterms:modified>
  <cp:revision>110</cp:revision>
  <dc:subject/>
  <dc:title>Prezentacja programu PowerPoint</dc:title>
</cp:coreProperties>
</file>